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813-A1A3-48D0-8900-F0F08100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C7E7-BA72-4199-84C9-5069B493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B345-626D-4741-8144-3F9A21A1A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0315-0496-433E-B4D7-A6BD45B0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9DB1-282B-4B94-9EF1-759FFFC3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FA7B-2D7C-453B-BA50-63923D5F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D9F4-73C6-4955-AB8C-1A6AC689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D128-A7EA-4C7E-A5D0-CB37923C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E895-6E1D-41C5-A578-50220871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F321C-DF28-428F-9D56-834E93E3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4CD6-FF53-4A42-8996-E70B21E0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5A08-8CA2-416C-A3C3-DC8BC4AB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4FA8-D8B8-493B-8740-BF7C9D87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7208-0880-49A9-A229-CD10E727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C524-726B-4743-9D1D-E4D08B9B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2ED1-AD39-48A0-8489-79D8E46F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9E5F-E69D-4263-92F9-14E7F3D1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43DB-842E-45C3-B072-11A6B1B0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6C5-2AEC-4471-9257-3B6893DDB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2E5-2193-4209-B22F-AAEFFA59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E318-4DFD-4014-8A3F-881B2F87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B8E-6D26-4AFB-BCFC-F38956A5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0BC4-46ED-4B5E-974D-052A2658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3048-5345-4885-AF74-11902F3D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141D90-A08A-4AF2-87B8-28F3200C9B5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CEFE99-3BBF-40EB-9E29-3F464182B0C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9"/>
          <p:cNvSpPr/>
          <p:nvPr/>
        </p:nvSpPr>
        <p:spPr>
          <a:xfrm>
            <a:off x="0" y="0"/>
            <a:ext cx="922176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85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8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44604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4  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23892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92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94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文本框 22" descr=""/>
          <p:cNvPicPr/>
          <p:nvPr/>
        </p:nvPicPr>
        <p:blipFill>
          <a:blip r:embed="rId9"/>
          <a:stretch/>
        </p:blipFill>
        <p:spPr>
          <a:xfrm>
            <a:off x="2744640" y="4024440"/>
            <a:ext cx="608184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1"/>
          <p:cNvSpPr/>
          <p:nvPr/>
        </p:nvSpPr>
        <p:spPr>
          <a:xfrm>
            <a:off x="822240" y="1527120"/>
            <a:ext cx="6747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按要求完成下列句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 bu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some frui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就画线部分提问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ou want to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159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4"/>
          <p:cNvSpPr/>
          <p:nvPr/>
        </p:nvSpPr>
        <p:spPr>
          <a:xfrm>
            <a:off x="871560" y="3559320"/>
            <a:ext cx="7153200" cy="1008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点拨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7"/>
          <p:cNvSpPr/>
          <p:nvPr/>
        </p:nvSpPr>
        <p:spPr>
          <a:xfrm>
            <a:off x="1552680" y="3551400"/>
            <a:ext cx="672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询问某人想要买什么用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What do/does sb. want to buy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？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句主语为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you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，故用</a:t>
            </a:r>
            <a:r>
              <a:rPr b="1" lang="en-US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What do</a:t>
            </a:r>
            <a:r>
              <a:rPr b="1" lang="zh-CN" sz="2000" spc="-1" strike="noStrike">
                <a:solidFill>
                  <a:srgbClr val="006600"/>
                </a:solidFill>
                <a:latin typeface="Times New Roman"/>
                <a:ea typeface="黑体"/>
              </a:rPr>
              <a:t>，注意句首单词首字母大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885960" y="2863800"/>
            <a:ext cx="1903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hat         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"/>
          <p:cNvSpPr/>
          <p:nvPr/>
        </p:nvSpPr>
        <p:spPr>
          <a:xfrm>
            <a:off x="851040" y="4606920"/>
            <a:ext cx="7142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判断下列句子与图片是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否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相符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      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e man is too fun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239840" y="54086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0" descr=""/>
          <p:cNvPicPr/>
          <p:nvPr/>
        </p:nvPicPr>
        <p:blipFill>
          <a:blip r:embed="rId1"/>
          <a:stretch/>
        </p:blipFill>
        <p:spPr>
          <a:xfrm>
            <a:off x="6297480" y="5060880"/>
            <a:ext cx="858960" cy="126360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6" descr=""/>
          <p:cNvPicPr/>
          <p:nvPr/>
        </p:nvPicPr>
        <p:blipFill>
          <a:blip r:embed="rId2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169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20"/>
          <p:cNvSpPr/>
          <p:nvPr/>
        </p:nvSpPr>
        <p:spPr>
          <a:xfrm>
            <a:off x="907920" y="1554120"/>
            <a:ext cx="80773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三、单项选择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ould you like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shopping with m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I’d like 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A. to go                      B. to going                    C. go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四、句子接龙游戏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两位学生为一组，一问一答，练习“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ould you  like ...?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句型。然后角色互换。如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S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ould you like some egg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S2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No, thanks. Would you  like some banana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3240360" y="2158920"/>
            <a:ext cx="381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3"/>
          <p:cNvSpPr/>
          <p:nvPr/>
        </p:nvSpPr>
        <p:spPr>
          <a:xfrm>
            <a:off x="633240" y="1581120"/>
            <a:ext cx="801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728640" y="2922480"/>
            <a:ext cx="7532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unn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unny story, have fun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want to buy?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would you like...?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4"/>
          <p:cNvSpPr/>
          <p:nvPr/>
        </p:nvSpPr>
        <p:spPr>
          <a:xfrm>
            <a:off x="0" y="0"/>
            <a:ext cx="92394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180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182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1371600" y="4732200"/>
            <a:ext cx="652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would you like for Christ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2"/>
          <a:stretch/>
        </p:blipFill>
        <p:spPr>
          <a:xfrm>
            <a:off x="1415880" y="2022480"/>
            <a:ext cx="2589480" cy="22384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3"/>
          <a:stretch/>
        </p:blipFill>
        <p:spPr>
          <a:xfrm>
            <a:off x="4702320" y="2022480"/>
            <a:ext cx="28670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文本框 25" descr=""/>
          <p:cNvPicPr/>
          <p:nvPr/>
        </p:nvPicPr>
        <p:blipFill>
          <a:blip r:embed="rId1"/>
          <a:stretch/>
        </p:blipFill>
        <p:spPr>
          <a:xfrm>
            <a:off x="2193840" y="230040"/>
            <a:ext cx="5027760" cy="716040"/>
          </a:xfrm>
          <a:prstGeom prst="rect">
            <a:avLst/>
          </a:prstGeom>
          <a:ln w="0">
            <a:noFill/>
          </a:ln>
        </p:spPr>
      </p:pic>
      <p:sp>
        <p:nvSpPr>
          <p:cNvPr id="107" name="矩形 1"/>
          <p:cNvSpPr/>
          <p:nvPr/>
        </p:nvSpPr>
        <p:spPr>
          <a:xfrm>
            <a:off x="843120" y="2252520"/>
            <a:ext cx="8057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I want to buy some gifts for my fami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want to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know. Are you going to give Jenny’s family a gif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es! I am going to give them a special gift from China for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their Christmas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Great! Oh, look! There’s Santa! Come 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Hello, Sant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5680" indent="-985680">
              <a:lnSpc>
                <a:spcPct val="150000"/>
              </a:lnSpc>
              <a:tabLst>
                <a:tab algn="l" pos="0"/>
                <a:tab algn="l" pos="9856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erry Christmas!  Ho! Ho! H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3"/>
          <p:cNvSpPr/>
          <p:nvPr/>
        </p:nvSpPr>
        <p:spPr>
          <a:xfrm>
            <a:off x="6357960" y="4079880"/>
            <a:ext cx="2008080" cy="1677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4" descr=""/>
          <p:cNvPicPr/>
          <p:nvPr/>
        </p:nvPicPr>
        <p:blipFill>
          <a:blip r:embed="rId2"/>
          <a:stretch/>
        </p:blipFill>
        <p:spPr>
          <a:xfrm>
            <a:off x="6499080" y="4233960"/>
            <a:ext cx="1727280" cy="1398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"/>
          <p:cNvPicPr/>
          <p:nvPr/>
        </p:nvPicPr>
        <p:blipFill>
          <a:blip r:embed="rId3"/>
          <a:stretch/>
        </p:blipFill>
        <p:spPr>
          <a:xfrm>
            <a:off x="1419120" y="1039680"/>
            <a:ext cx="6946920" cy="1181160"/>
          </a:xfrm>
          <a:prstGeom prst="rect">
            <a:avLst/>
          </a:prstGeom>
          <a:ln w="0">
            <a:noFill/>
          </a:ln>
        </p:spPr>
      </p:pic>
      <p:sp>
        <p:nvSpPr>
          <p:cNvPr id="111" name="矩形 2"/>
          <p:cNvSpPr/>
          <p:nvPr/>
        </p:nvSpPr>
        <p:spPr>
          <a:xfrm>
            <a:off x="1403280" y="1028880"/>
            <a:ext cx="274500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nny and Li Ming are shopping for Christmas gifts in a shop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5424480" y="1233360"/>
            <a:ext cx="2897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黑体"/>
              </a:rPr>
              <a:t>At Christmas, shops often have Santas. Santas are fu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4"/>
          <p:cNvSpPr/>
          <p:nvPr/>
        </p:nvSpPr>
        <p:spPr>
          <a:xfrm>
            <a:off x="914400" y="1182600"/>
            <a:ext cx="76312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 always says, “Ho! Ho! H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would you like for Christmas, young m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a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ell, Santa, I would like a big, new ca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A new car! Ho! Ho! Ho! That’ s  funn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would you like for Christ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on’t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h! Ho! Ho! Ho! Would you like a new swea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ome toy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Li Ming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...  I know what I would lik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Santa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Oh! Ho! Ho! Ho! That’s grea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文本框 25" descr=""/>
          <p:cNvPicPr/>
          <p:nvPr/>
        </p:nvPicPr>
        <p:blipFill>
          <a:blip r:embed="rId1"/>
          <a:stretch/>
        </p:blipFill>
        <p:spPr>
          <a:xfrm>
            <a:off x="2193840" y="230040"/>
            <a:ext cx="5027760" cy="7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7"/>
          <p:cNvSpPr/>
          <p:nvPr/>
        </p:nvSpPr>
        <p:spPr>
          <a:xfrm>
            <a:off x="2793240" y="1488960"/>
            <a:ext cx="307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What do you want to bu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你想要买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圆角矩形 18"/>
          <p:cNvSpPr/>
          <p:nvPr/>
        </p:nvSpPr>
        <p:spPr>
          <a:xfrm>
            <a:off x="965160" y="15732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9"/>
          <p:cNvSpPr/>
          <p:nvPr/>
        </p:nvSpPr>
        <p:spPr>
          <a:xfrm>
            <a:off x="1389240" y="15876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1717560" y="3511440"/>
            <a:ext cx="6780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do you want to buy?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你想要买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 buy a coat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我想要买一件外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9" descr="book.gif"/>
          <p:cNvPicPr/>
          <p:nvPr/>
        </p:nvPicPr>
        <p:blipFill>
          <a:blip r:embed="rId1"/>
          <a:stretch/>
        </p:blipFill>
        <p:spPr>
          <a:xfrm>
            <a:off x="177840" y="146520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20" name="矩形 1"/>
          <p:cNvSpPr/>
          <p:nvPr/>
        </p:nvSpPr>
        <p:spPr>
          <a:xfrm>
            <a:off x="893880" y="36352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2286000" y="2544840"/>
            <a:ext cx="6054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由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引导的特殊疑问句，是询问对方想要买什么的句型，回答是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want to buy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＋某物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1011240" y="261144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用法及答语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8"/>
          <p:cNvSpPr/>
          <p:nvPr/>
        </p:nvSpPr>
        <p:spPr>
          <a:xfrm>
            <a:off x="1768320" y="4619520"/>
            <a:ext cx="644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want to buy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 shir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 my father.(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就画线部分提问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ou want to buy for your fa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001880" y="4729320"/>
            <a:ext cx="9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  <a:ea typeface="黑体"/>
              </a:rPr>
              <a:t>典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9" descr="花盆.png"/>
          <p:cNvPicPr/>
          <p:nvPr/>
        </p:nvPicPr>
        <p:blipFill>
          <a:blip r:embed="rId2"/>
          <a:stretch/>
        </p:blipFill>
        <p:spPr>
          <a:xfrm>
            <a:off x="696960" y="4738680"/>
            <a:ext cx="323640" cy="368280"/>
          </a:xfrm>
          <a:prstGeom prst="rect">
            <a:avLst/>
          </a:prstGeom>
          <a:ln w="0">
            <a:noFill/>
          </a:ln>
        </p:spPr>
      </p:pic>
      <p:sp>
        <p:nvSpPr>
          <p:cNvPr id="126" name="矩形 31"/>
          <p:cNvSpPr/>
          <p:nvPr/>
        </p:nvSpPr>
        <p:spPr>
          <a:xfrm>
            <a:off x="2050920" y="5165640"/>
            <a:ext cx="221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hat              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24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41"/>
          <p:cNvSpPr/>
          <p:nvPr/>
        </p:nvSpPr>
        <p:spPr>
          <a:xfrm>
            <a:off x="2891520" y="1539720"/>
            <a:ext cx="355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Would you like a new sweat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你想要一件新的毛衣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42"/>
          <p:cNvSpPr/>
          <p:nvPr/>
        </p:nvSpPr>
        <p:spPr>
          <a:xfrm>
            <a:off x="2054160" y="2494080"/>
            <a:ext cx="63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ould you like...?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用来礼貌地询问对方的意愿或委婉地提出请求、建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后面跟名词或代词，表示“想要某物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ould you like some br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你想要些面包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—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please. /No, than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好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,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太感谢了。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不，谢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47"/>
          <p:cNvSpPr/>
          <p:nvPr/>
        </p:nvSpPr>
        <p:spPr>
          <a:xfrm>
            <a:off x="833400" y="26305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用法及答语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992160" y="1562040"/>
            <a:ext cx="1871640" cy="549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406440" y="1509840"/>
            <a:ext cx="1085760" cy="66492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19"/>
          <p:cNvSpPr/>
          <p:nvPr/>
        </p:nvSpPr>
        <p:spPr>
          <a:xfrm>
            <a:off x="1541520" y="1614600"/>
            <a:ext cx="129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9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6"/>
          <p:cNvSpPr/>
          <p:nvPr/>
        </p:nvSpPr>
        <p:spPr>
          <a:xfrm>
            <a:off x="360360" y="1770120"/>
            <a:ext cx="864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后面跟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＋动词原形”，表示“想要（某人）做某事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uld you like Jenny to wash the dirty dish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想要詹妮洗这些脏盘子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的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No. I want to wash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。我想要洗它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组合 1"/>
          <p:cNvGrpSpPr/>
          <p:nvPr/>
        </p:nvGrpSpPr>
        <p:grpSpPr>
          <a:xfrm>
            <a:off x="227160" y="1538280"/>
            <a:ext cx="1806480" cy="1515960"/>
            <a:chOff x="227160" y="1538280"/>
            <a:chExt cx="1806480" cy="1515960"/>
          </a:xfrm>
        </p:grpSpPr>
        <p:pic>
          <p:nvPicPr>
            <p:cNvPr id="146" name="图片 3" descr="泡泡1.png"/>
            <p:cNvPicPr/>
            <p:nvPr/>
          </p:nvPicPr>
          <p:blipFill>
            <a:blip r:embed="rId1"/>
            <a:stretch/>
          </p:blipFill>
          <p:spPr>
            <a:xfrm>
              <a:off x="227160" y="1538280"/>
              <a:ext cx="1806480" cy="15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文本框 2"/>
            <p:cNvSpPr/>
            <p:nvPr/>
          </p:nvSpPr>
          <p:spPr>
            <a:xfrm>
              <a:off x="733680" y="186012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2"/>
          <p:cNvSpPr/>
          <p:nvPr/>
        </p:nvSpPr>
        <p:spPr>
          <a:xfrm>
            <a:off x="1700280" y="2786040"/>
            <a:ext cx="694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k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uld lik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意思不一样，不能混淆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lik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意为“喜欢”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uld lik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是“想要”，相当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an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但是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uld lik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比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ant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更礼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6" descr=""/>
          <p:cNvPicPr/>
          <p:nvPr/>
        </p:nvPicPr>
        <p:blipFill>
          <a:blip r:embed="rId2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文本框 8" descr=""/>
          <p:cNvPicPr/>
          <p:nvPr/>
        </p:nvPicPr>
        <p:blipFill>
          <a:blip r:embed="rId1"/>
          <a:stretch/>
        </p:blipFill>
        <p:spPr>
          <a:xfrm>
            <a:off x="2987640" y="214200"/>
            <a:ext cx="3664080" cy="7826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833400" y="1123920"/>
            <a:ext cx="7737480" cy="75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 Part 1 and answer the ques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What are Danny and Li Ming do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 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             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When do the shops have Sant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——————————————————————————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Where is Li Ming’s special gift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What does Danny want for Christma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             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What do you think Li Ming says in Santa’ s e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____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              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1173240" y="2009880"/>
            <a:ext cx="695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anny and Li Ming are shopping for Christmas gifts in a sh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4"/>
          <p:cNvSpPr/>
          <p:nvPr/>
        </p:nvSpPr>
        <p:spPr>
          <a:xfrm>
            <a:off x="1227960" y="2843280"/>
            <a:ext cx="1710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t Christ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5"/>
          <p:cNvSpPr/>
          <p:nvPr/>
        </p:nvSpPr>
        <p:spPr>
          <a:xfrm>
            <a:off x="1176840" y="3878280"/>
            <a:ext cx="1582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rom Chi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6"/>
          <p:cNvSpPr/>
          <p:nvPr/>
        </p:nvSpPr>
        <p:spPr>
          <a:xfrm>
            <a:off x="1145880" y="4780080"/>
            <a:ext cx="3737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anny would like a big, new 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7"/>
          <p:cNvSpPr/>
          <p:nvPr/>
        </p:nvSpPr>
        <p:spPr>
          <a:xfrm>
            <a:off x="1143720" y="5715000"/>
            <a:ext cx="1649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 don’t kn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4:00:42Z</dcterms:modified>
  <cp:revision>70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